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174-318F-4B7C-8836-5B9C00DD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48C-F404-4700-9BDA-9E0052B6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DCDD-6D0D-49D2-89D4-0B8979085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ACEE-C4A1-4F7D-BD87-8A83EB74A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0647-5204-4711-A583-3A92DC43F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88FC-0BFB-480A-A615-F0F2421D8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0585-9996-4E20-BF87-88859D3CD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4659-42BE-4444-B80F-82C1EC13B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BC2A-8315-4436-8EDA-2F4093F4C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5349-DAE2-482E-AEC4-70FEF00AA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7EE5-032E-47E5-A17E-CA9CFF20A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4872-D836-4371-B756-D54FBC47C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D4BC-4CB3-48BE-91F4-35C1E49D3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8A98-5EDE-4D86-A853-1E75F0FEE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AEE6-1665-4600-AD9A-86BEE2DDF90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(Modul3/ Activitate2/Resurse suplimentare/Model de scrisoare de acord…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E6A2-237A-4442-9526-AA87A47DEE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EA56-9051-4031-B8EB-BFC0D61A5C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79BA-1FA6-4C75-AA24-331D32F54B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93A5-8230-4D75-A4FB-4037D7D2E3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22A8-2A51-4547-A3E4-A311146F7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C7AA-2BC8-4313-ABD8-84B66F8ED0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7F16-FFA5-4EFF-9D51-6C8CD11BEC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73CF-3C19-4DEA-80D1-F3486369DA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B55A-FD8A-4A7C-8C6B-06B9EE1D0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re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Aproape orice creat privat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   este protejat,indiferent da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are o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iin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re sau n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A877-1FC6-4D47-8837-267B3D3D6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CDA2-1489-42DF-80B7-F6A60D0C6A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395E-A2B0-42E2-9AFF-A9BC3B1B1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copierea materialelor din consumabile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298B-7BF9-47B1-BB03-36CABC51F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elev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lev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9DC5-23BA-4D1B-A6B8-7C2F0CE66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entru profes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Profes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A026-AAF1-4CD0-B310-8B7F3F1103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371600"/>
          <a:ext cx="8331120" cy="4343400"/>
        </p:xfrm>
        <a:graphic>
          <a:graphicData uri="http://schemas.openxmlformats.org/drawingml/2006/table">
            <a:tbl>
              <a:tblPr/>
              <a:tblGrid>
                <a:gridCol w="3295440"/>
                <a:gridCol w="50356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 (animati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49AE-722A-4C22-93F9-62BF080574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E5C9-FDD8-4793-9AE7-D7F2584D2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Carmen</cp:lastModifiedBy>
  <dcterms:modified xsi:type="dcterms:W3CDTF">2007-08-24T19:24:46Z</dcterms:modified>
  <cp:revision>315</cp:revision>
  <dc:subject/>
  <dc:title>Copyright Chaos</dc:title>
</cp:coreProperties>
</file>